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48.wmf" ContentType="image/x-wmf"/>
  <Override PartName="/ppt/media/image11.wmf" ContentType="image/x-wmf"/>
  <Override PartName="/ppt/media/image12.wmf" ContentType="image/x-wmf"/>
  <Override PartName="/ppt/media/image10.wmf" ContentType="image/x-wmf"/>
  <Override PartName="/ppt/media/image47.wmf" ContentType="image/x-wmf"/>
  <Override PartName="/ppt/media/image37.wmf" ContentType="image/x-wmf"/>
  <Override PartName="/ppt/media/image7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012F9-EECB-486E-B5E0-842779AAF70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7BDF6-F2CD-483A-9407-59EE0DBA184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3703-C4AD-4A91-A0F9-A3C54CB83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1015-E0E3-412C-A201-8F19CF9B7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58BB-F8DE-4879-836A-EB0963154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11A0-95F5-4C73-BE8A-1E153EC50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3EE22-1BDB-43F8-8ABA-3D1CEFD55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6B341-E5D9-448A-B0BB-954A5F16E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7A7C1-A345-42FF-930D-3F0CCA456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9F32A-D3B6-43E4-B42A-8197226BC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1C524-9C9F-406C-9B8E-1425AC918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70E78-F617-496E-90ED-D01C8AD3B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C94A7-D647-42DD-9395-4A64FDCEF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1327-96E9-440B-8763-5EFB326D5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0091D-0429-4B37-AEA1-30DAEE302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12957-6F69-417B-AEF9-034C98192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117D7-21FB-49C9-9DCB-39FC9E7AB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36195-772D-48E1-82D1-FB1AA6519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A95CC-A18A-411C-BABE-FF57A9776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1805-6EBE-41ED-AC63-9069EC637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98C0-5002-49DA-94D5-D6891D8CC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6D71-4A6A-4767-95E9-425761F10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E7FF-0FBF-48EF-87B7-251162276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A2E7-CDF0-400F-BED7-F7C243677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E5E3-00AE-4ECC-B347-5FA5A4CB8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05DE-E574-4888-BB0C-8C6ED810A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F0CEC-B21E-4621-9A16-A40ADAB09D7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C25B8-400B-41DF-8A4B-116D1A2139B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4.wmf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4.wmf"/><Relationship Id="rId1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0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1.wmf"/><Relationship Id="rId1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2.wmf"/><Relationship Id="rId1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9.wmf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2.wmf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9.wmf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5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7.wmf"/><Relationship Id="rId9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0920" y="1387440"/>
            <a:ext cx="807696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ОБСТВЕННЫЕ  ЗНАЧЕНИЯ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br>
              <a:rPr sz="28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СОБСТВЕННЫЕ  ЗНАЧЕНИ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СОБСТВЕННЫЕ  ВЕКТОР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МАТРИЦ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5"/>
          <p:cNvSpPr/>
          <p:nvPr/>
        </p:nvSpPr>
        <p:spPr>
          <a:xfrm>
            <a:off x="0" y="2986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7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БСТВЕННЫЕ  ЗНАЧЕНИЯ  МАТРИЦ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7" name="Object 4"/>
          <p:cNvGraphicFramePr/>
          <p:nvPr/>
        </p:nvGraphicFramePr>
        <p:xfrm>
          <a:off x="428760" y="1357200"/>
          <a:ext cx="6006960" cy="113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1357200"/>
                    <a:ext cx="6006960" cy="113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9" name="Object 2"/>
          <p:cNvGraphicFramePr/>
          <p:nvPr/>
        </p:nvGraphicFramePr>
        <p:xfrm>
          <a:off x="318960" y="2577960"/>
          <a:ext cx="8039160" cy="113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0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960" y="2577960"/>
                    <a:ext cx="8039160" cy="113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1" name="Object 3"/>
          <p:cNvGraphicFramePr/>
          <p:nvPr/>
        </p:nvGraphicFramePr>
        <p:xfrm>
          <a:off x="357120" y="3786120"/>
          <a:ext cx="4154400" cy="1136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2" name="Object 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7120" y="3786120"/>
                    <a:ext cx="4154400" cy="113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" name="TextBox 9"/>
          <p:cNvSpPr/>
          <p:nvPr/>
        </p:nvSpPr>
        <p:spPr>
          <a:xfrm>
            <a:off x="4932720" y="3714840"/>
            <a:ext cx="1538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Положи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получи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4" name="Object 9"/>
          <p:cNvGraphicFramePr/>
          <p:nvPr/>
        </p:nvGraphicFramePr>
        <p:xfrm>
          <a:off x="6772320" y="3857760"/>
          <a:ext cx="1060560" cy="538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5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772320" y="3857760"/>
                    <a:ext cx="1060560" cy="5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6" name="Object 5"/>
          <p:cNvGraphicFramePr/>
          <p:nvPr/>
        </p:nvGraphicFramePr>
        <p:xfrm>
          <a:off x="4572000" y="4929120"/>
          <a:ext cx="3651120" cy="1136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97" name="Object 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572000" y="4929120"/>
                    <a:ext cx="3651120" cy="113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5"/>
          <p:cNvSpPr/>
          <p:nvPr/>
        </p:nvSpPr>
        <p:spPr>
          <a:xfrm>
            <a:off x="0" y="2986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7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БСТВЕННЫЕ  ЗНАЧЕНИЯ  МАТРИЦ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1" name="Object 1"/>
          <p:cNvGraphicFramePr/>
          <p:nvPr/>
        </p:nvGraphicFramePr>
        <p:xfrm>
          <a:off x="558720" y="1428840"/>
          <a:ext cx="2886120" cy="104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8720" y="1428840"/>
                    <a:ext cx="2886120" cy="104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TextBox 6"/>
          <p:cNvSpPr/>
          <p:nvPr/>
        </p:nvSpPr>
        <p:spPr>
          <a:xfrm>
            <a:off x="3848400" y="1214280"/>
            <a:ext cx="4854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является собственным вектор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матрицы        с    собственны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значением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Объект 18"/>
              <p:cNvSpPr txBox="1"/>
              <p:nvPr/>
            </p:nvSpPr>
            <p:spPr>
              <a:xfrm>
                <a:off x="5286240" y="1857240"/>
                <a:ext cx="3715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05" name="Object 3"/>
          <p:cNvGraphicFramePr/>
          <p:nvPr/>
        </p:nvGraphicFramePr>
        <p:xfrm>
          <a:off x="5737320" y="2357280"/>
          <a:ext cx="1261800" cy="568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37320" y="2357280"/>
                    <a:ext cx="1261800" cy="56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7" name="TextBox 9"/>
          <p:cNvSpPr/>
          <p:nvPr/>
        </p:nvSpPr>
        <p:spPr>
          <a:xfrm>
            <a:off x="428760" y="3214800"/>
            <a:ext cx="5884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Аналогично для собственного зна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получим следующ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Object 4"/>
          <p:cNvGraphicFramePr/>
          <p:nvPr/>
        </p:nvGraphicFramePr>
        <p:xfrm>
          <a:off x="6572160" y="3214800"/>
          <a:ext cx="1133640" cy="568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9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572160" y="3214800"/>
                    <a:ext cx="1133640" cy="56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Object 5"/>
          <p:cNvGraphicFramePr/>
          <p:nvPr/>
        </p:nvGraphicFramePr>
        <p:xfrm>
          <a:off x="3929040" y="3857760"/>
          <a:ext cx="2616120" cy="1425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1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929040" y="3857760"/>
                    <a:ext cx="2616120" cy="142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5"/>
          <p:cNvSpPr/>
          <p:nvPr/>
        </p:nvSpPr>
        <p:spPr>
          <a:xfrm>
            <a:off x="0" y="2986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7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войства собственных значений матриц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TextBox 4"/>
          <p:cNvSpPr/>
          <p:nvPr/>
        </p:nvSpPr>
        <p:spPr>
          <a:xfrm>
            <a:off x="448200" y="1357200"/>
            <a:ext cx="8152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1f1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Произведение собственных значений матрицы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равно ее определител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f1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f1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Число  отличных от нуля собственных значен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матрицы        равно ее ранг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f1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Все собственные значения матрицы отличны от нул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только и только тогда, когда  матрица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невырожденн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6" name="Object 1"/>
          <p:cNvGraphicFramePr/>
          <p:nvPr/>
        </p:nvGraphicFramePr>
        <p:xfrm>
          <a:off x="4429080" y="2000160"/>
          <a:ext cx="4022640" cy="93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9080" y="2000160"/>
                    <a:ext cx="4022640" cy="93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18" name="Объект 18"/>
              <p:cNvSpPr txBox="1"/>
              <p:nvPr/>
            </p:nvSpPr>
            <p:spPr>
              <a:xfrm>
                <a:off x="7643880" y="1428840"/>
                <a:ext cx="3715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Object 3"/>
              <p:cNvSpPr txBox="1"/>
              <p:nvPr/>
            </p:nvSpPr>
            <p:spPr>
              <a:xfrm>
                <a:off x="2143080" y="3643200"/>
                <a:ext cx="3715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Object 4"/>
              <p:cNvSpPr txBox="1"/>
              <p:nvPr/>
            </p:nvSpPr>
            <p:spPr>
              <a:xfrm>
                <a:off x="6143760" y="4786200"/>
                <a:ext cx="3715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5"/>
          <p:cNvSpPr/>
          <p:nvPr/>
        </p:nvSpPr>
        <p:spPr>
          <a:xfrm>
            <a:off x="0" y="2986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7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войства собственных значений матриц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Box 4"/>
          <p:cNvSpPr/>
          <p:nvPr/>
        </p:nvSpPr>
        <p:spPr>
          <a:xfrm>
            <a:off x="442440" y="1428840"/>
            <a:ext cx="8186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1f1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Если                собственное значение невырожден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матрицы        , то                      собственное знач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матрицы              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f1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Если                собственное значение матрицы        , 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              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собственное значение  матрицы         </a:t>
            </a:r>
            <a:r>
              <a:rPr b="0" lang="en-US" sz="2400" spc="-1" strike="noStrike">
                <a:solidFill>
                  <a:srgbClr val="1f1f99"/>
                </a:solidFill>
                <a:latin typeface="Arial"/>
              </a:rPr>
              <a:t>(</a:t>
            </a:r>
            <a:r>
              <a:rPr b="1" i="1" lang="ru-RU" sz="2400" spc="-1" strike="noStrike">
                <a:solidFill>
                  <a:srgbClr val="1f1f99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1f1f99"/>
                </a:solidFill>
                <a:latin typeface="Arial"/>
              </a:rPr>
              <a:t>m </a:t>
            </a:r>
            <a:r>
              <a:rPr b="0" lang="en-US" sz="2400" spc="-1" strike="noStrike">
                <a:solidFill>
                  <a:srgbClr val="1f1f99"/>
                </a:solidFill>
                <a:latin typeface="Arial"/>
              </a:rPr>
              <a:t>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натуральное число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f1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Объект 18"/>
              <p:cNvSpPr txBox="1"/>
              <p:nvPr/>
            </p:nvSpPr>
            <p:spPr>
              <a:xfrm>
                <a:off x="2286000" y="2077920"/>
                <a:ext cx="3715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26" name="Object 4"/>
          <p:cNvGraphicFramePr/>
          <p:nvPr/>
        </p:nvGraphicFramePr>
        <p:xfrm>
          <a:off x="1503360" y="1500120"/>
          <a:ext cx="1177920" cy="45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03360" y="1500120"/>
                    <a:ext cx="1177920" cy="4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8" name="Object 6"/>
          <p:cNvGraphicFramePr/>
          <p:nvPr/>
        </p:nvGraphicFramePr>
        <p:xfrm>
          <a:off x="3483000" y="1785960"/>
          <a:ext cx="1517760" cy="10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9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83000" y="1785960"/>
                    <a:ext cx="151776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0" name="Object 7"/>
          <p:cNvGraphicFramePr/>
          <p:nvPr/>
        </p:nvGraphicFramePr>
        <p:xfrm>
          <a:off x="2643120" y="2571840"/>
          <a:ext cx="588960" cy="487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1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43120" y="2571840"/>
                    <a:ext cx="58896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2" name="Object 8"/>
          <p:cNvGraphicFramePr/>
          <p:nvPr/>
        </p:nvGraphicFramePr>
        <p:xfrm>
          <a:off x="1571760" y="3187800"/>
          <a:ext cx="1177920" cy="455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33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71760" y="3187800"/>
                    <a:ext cx="1177920" cy="45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34" name="Object 9"/>
              <p:cNvSpPr txBox="1"/>
              <p:nvPr/>
            </p:nvSpPr>
            <p:spPr>
              <a:xfrm>
                <a:off x="7429680" y="3214800"/>
                <a:ext cx="37116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35" name="Object 10"/>
          <p:cNvGraphicFramePr/>
          <p:nvPr/>
        </p:nvGraphicFramePr>
        <p:xfrm>
          <a:off x="836640" y="3714840"/>
          <a:ext cx="806400" cy="519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36" name="Object 1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836640" y="3714840"/>
                    <a:ext cx="80640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7" name="Object 11"/>
          <p:cNvGraphicFramePr/>
          <p:nvPr/>
        </p:nvGraphicFramePr>
        <p:xfrm>
          <a:off x="6429240" y="3714840"/>
          <a:ext cx="527040" cy="4874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38" name="Object 1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429240" y="3714840"/>
                    <a:ext cx="52704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5"/>
          <p:cNvSpPr/>
          <p:nvPr/>
        </p:nvSpPr>
        <p:spPr>
          <a:xfrm>
            <a:off x="0" y="2986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7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БСТВЕННЫЕ  ВЕКТОРЫ  МАТРИЦ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Object 6"/>
              <p:cNvSpPr txBox="1"/>
              <p:nvPr/>
            </p:nvSpPr>
            <p:spPr>
              <a:xfrm>
                <a:off x="571680" y="1785960"/>
                <a:ext cx="4095720" cy="15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 </m:t>
                        </m:r>
                        <m:m>
                          <m:mr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r>
                                <m:t xml:space="preserve">λ</m:t>
                              </m:r>
                              <m:r>
                                <m:t xml:space="preserve">)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r>
                                <m:t xml:space="preserve">λ</m:t>
                              </m:r>
                              <m:r>
                                <m:t xml:space="preserve">)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r>
                                <m:t xml:space="preserve">λ</m:t>
                              </m:r>
                              <m:r>
                                <m:t xml:space="preserve">)</m:t>
                              </m:r>
                            </m:e>
                          </m:mr>
                        </m:m>
                        <m:r>
                          <m:t xml:space="preserve"> 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43" name="Object 22"/>
          <p:cNvGraphicFramePr/>
          <p:nvPr/>
        </p:nvGraphicFramePr>
        <p:xfrm>
          <a:off x="6643800" y="2357280"/>
          <a:ext cx="365040" cy="49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4" name="Object 2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43800" y="2357280"/>
                    <a:ext cx="365040" cy="4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5" name="Object 21"/>
          <p:cNvGraphicFramePr/>
          <p:nvPr/>
        </p:nvGraphicFramePr>
        <p:xfrm>
          <a:off x="6572160" y="2857680"/>
          <a:ext cx="347760" cy="500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6" name="Object 2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72160" y="2857680"/>
                    <a:ext cx="34776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7" name="Object 20"/>
          <p:cNvGraphicFramePr/>
          <p:nvPr/>
        </p:nvGraphicFramePr>
        <p:xfrm>
          <a:off x="7143840" y="2928960"/>
          <a:ext cx="1243080" cy="403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8" name="Object 2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143840" y="2928960"/>
                    <a:ext cx="1243080" cy="40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9" name="Object 19"/>
          <p:cNvGraphicFramePr/>
          <p:nvPr/>
        </p:nvGraphicFramePr>
        <p:xfrm>
          <a:off x="5429160" y="3429000"/>
          <a:ext cx="365040" cy="493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50" name="Object 1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29160" y="3429000"/>
                    <a:ext cx="365040" cy="49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1" name="Object 18"/>
          <p:cNvGraphicFramePr/>
          <p:nvPr/>
        </p:nvGraphicFramePr>
        <p:xfrm>
          <a:off x="1857240" y="3929040"/>
          <a:ext cx="858960" cy="495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52" name="Object 1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857240" y="3929040"/>
                    <a:ext cx="85896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3" name="Rectangle 25"/>
          <p:cNvSpPr/>
          <p:nvPr/>
        </p:nvSpPr>
        <p:spPr>
          <a:xfrm>
            <a:off x="4429080" y="77256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32"/>
          <p:cNvSpPr/>
          <p:nvPr/>
        </p:nvSpPr>
        <p:spPr>
          <a:xfrm>
            <a:off x="357120" y="1143000"/>
            <a:ext cx="8215560" cy="64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Arial"/>
              </a:rPr>
              <a:t>1.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Если из характеристического   уравнения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                                                     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найдено собственное                        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значение         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кратности      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то поиск соответствующих   числу        собственных векторов              матрицы </a:t>
            </a:r>
            <a:r>
              <a:rPr b="1" lang="ru-RU" sz="2400" spc="-1" strike="noStrike">
                <a:solidFill>
                  <a:srgbClr val="1f1f99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1f1f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сводится к  решению линейной системы                                   с постоянной квадратной матрицей                       поряд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3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6" name="Object 29"/>
          <p:cNvGraphicFramePr/>
          <p:nvPr/>
        </p:nvGraphicFramePr>
        <p:xfrm>
          <a:off x="3571920" y="4500720"/>
          <a:ext cx="2211480" cy="5108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57" name="Object 2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571920" y="4500720"/>
                    <a:ext cx="2211480" cy="51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8" name="Object 32"/>
          <p:cNvGraphicFramePr/>
          <p:nvPr/>
        </p:nvGraphicFramePr>
        <p:xfrm>
          <a:off x="3929040" y="5072040"/>
          <a:ext cx="1206360" cy="4953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59" name="Object 32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929040" y="5072040"/>
                    <a:ext cx="120636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0" name="Object 31"/>
          <p:cNvGraphicFramePr/>
          <p:nvPr/>
        </p:nvGraphicFramePr>
        <p:xfrm>
          <a:off x="6786720" y="5072040"/>
          <a:ext cx="529920" cy="5302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61" name="Object 31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786720" y="5072040"/>
                    <a:ext cx="52992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Rectangle 35"/>
          <p:cNvSpPr/>
          <p:nvPr/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1400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Линейная зависимость векторо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56760" y="1599840"/>
            <a:ext cx="81774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cc0066"/>
                </a:solidFill>
                <a:latin typeface="Arial"/>
              </a:rPr>
              <a:t>Определение . 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Векторы                      линейного векторного пространства          называются </a:t>
            </a:r>
            <a:r>
              <a:rPr b="0" i="1" lang="ru-RU" sz="2400" spc="-1" strike="noStrike" u="sng">
                <a:solidFill>
                  <a:srgbClr val="002060"/>
                </a:solidFill>
                <a:uFillTx/>
                <a:latin typeface="Arial"/>
              </a:rPr>
              <a:t>линейно зависимыми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, если существуют чис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                             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,  не все равные нулю, такие, что справедливо равенств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                         (1 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cc0066"/>
                </a:solidFill>
                <a:latin typeface="Arial"/>
              </a:rPr>
              <a:t>Определение  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Векторы</a:t>
            </a:r>
            <a:r>
              <a:rPr b="1" lang="ru-RU" sz="2400" spc="-1" strike="noStrike">
                <a:solidFill>
                  <a:srgbClr val="cc0066"/>
                </a:solidFill>
                <a:latin typeface="Arial"/>
              </a:rPr>
              <a:t>                        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линейного векторного пространства  называются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линейно независимыми,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если выполнение равенства (1) возможно только при услов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6" name="Object 1"/>
          <p:cNvGraphicFramePr/>
          <p:nvPr/>
        </p:nvGraphicFramePr>
        <p:xfrm>
          <a:off x="4857840" y="1571760"/>
          <a:ext cx="1306440" cy="41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7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57840" y="1571760"/>
                    <a:ext cx="1306440" cy="41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8" name="Rectangle 3"/>
          <p:cNvSpPr/>
          <p:nvPr/>
        </p:nvSpPr>
        <p:spPr>
          <a:xfrm>
            <a:off x="4449600" y="105840"/>
            <a:ext cx="244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0" name="Object 4"/>
          <p:cNvGraphicFramePr/>
          <p:nvPr/>
        </p:nvGraphicFramePr>
        <p:xfrm>
          <a:off x="4643280" y="1928880"/>
          <a:ext cx="384480" cy="455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1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3280" y="1928880"/>
                    <a:ext cx="384480" cy="45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2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3" name="Object 6"/>
          <p:cNvGraphicFramePr/>
          <p:nvPr/>
        </p:nvGraphicFramePr>
        <p:xfrm>
          <a:off x="1143000" y="2714760"/>
          <a:ext cx="1490760" cy="503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4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43000" y="2714760"/>
                    <a:ext cx="149076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5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6" name="Object 8"/>
          <p:cNvGraphicFramePr/>
          <p:nvPr/>
        </p:nvGraphicFramePr>
        <p:xfrm>
          <a:off x="1214280" y="3571920"/>
          <a:ext cx="3665520" cy="503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77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214280" y="3571920"/>
                    <a:ext cx="366552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8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9" name="Object 10"/>
          <p:cNvGraphicFramePr/>
          <p:nvPr/>
        </p:nvGraphicFramePr>
        <p:xfrm>
          <a:off x="5357880" y="5286240"/>
          <a:ext cx="2952720" cy="503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80" name="Object 1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357880" y="5286240"/>
                    <a:ext cx="295272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1" name="Object 13"/>
          <p:cNvGraphicFramePr/>
          <p:nvPr/>
        </p:nvGraphicFramePr>
        <p:xfrm>
          <a:off x="4643280" y="4000680"/>
          <a:ext cx="1306800" cy="4125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82" name="Object 13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643280" y="4000680"/>
                    <a:ext cx="1306800" cy="41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5"/>
          <p:cNvSpPr/>
          <p:nvPr/>
        </p:nvSpPr>
        <p:spPr>
          <a:xfrm>
            <a:off x="0" y="2986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7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БСТВЕННЫЕ  ВЕКТОРЫ  МАТРИЦ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TextBox 5"/>
          <p:cNvSpPr/>
          <p:nvPr/>
        </p:nvSpPr>
        <p:spPr>
          <a:xfrm>
            <a:off x="388800" y="1450800"/>
            <a:ext cx="82821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Систем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всегда имеет бесконечное множество решени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в котором число базисных  (то есть максимальное чис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линейно независимых)  решений равно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где              ранг матрицы  ,  то есть цел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неотрицательное число,                           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7" name="Object 1"/>
          <p:cNvGraphicFramePr/>
          <p:nvPr/>
        </p:nvGraphicFramePr>
        <p:xfrm>
          <a:off x="2071800" y="1428840"/>
          <a:ext cx="2614680" cy="60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8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71800" y="1428840"/>
                    <a:ext cx="2614680" cy="60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9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0" name="Object 2"/>
          <p:cNvGraphicFramePr/>
          <p:nvPr/>
        </p:nvGraphicFramePr>
        <p:xfrm>
          <a:off x="6357960" y="3071880"/>
          <a:ext cx="1096920" cy="587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1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57960" y="3071880"/>
                    <a:ext cx="1096920" cy="58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3" name="Object 4"/>
          <p:cNvGraphicFramePr/>
          <p:nvPr/>
        </p:nvGraphicFramePr>
        <p:xfrm>
          <a:off x="1214280" y="3643200"/>
          <a:ext cx="712800" cy="586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4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14280" y="3643200"/>
                    <a:ext cx="712800" cy="5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5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6" name="Object 6"/>
          <p:cNvGraphicFramePr/>
          <p:nvPr/>
        </p:nvGraphicFramePr>
        <p:xfrm>
          <a:off x="4286160" y="4214880"/>
          <a:ext cx="2138400" cy="585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97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286160" y="4214880"/>
                    <a:ext cx="2138400" cy="5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5"/>
          <p:cNvSpPr/>
          <p:nvPr/>
        </p:nvSpPr>
        <p:spPr>
          <a:xfrm>
            <a:off x="0" y="2986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7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0" name="Object 17"/>
          <p:cNvGraphicFramePr/>
          <p:nvPr/>
        </p:nvGraphicFramePr>
        <p:xfrm>
          <a:off x="7572240" y="3643200"/>
          <a:ext cx="365400" cy="49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1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72240" y="3643200"/>
                    <a:ext cx="365400" cy="4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2" name="Object 16"/>
          <p:cNvGraphicFramePr/>
          <p:nvPr/>
        </p:nvGraphicFramePr>
        <p:xfrm>
          <a:off x="2357280" y="4143240"/>
          <a:ext cx="586080" cy="586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3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57280" y="4143240"/>
                    <a:ext cx="586080" cy="5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4" name="Object 15"/>
          <p:cNvGraphicFramePr/>
          <p:nvPr/>
        </p:nvGraphicFramePr>
        <p:xfrm>
          <a:off x="6572160" y="4143240"/>
          <a:ext cx="530280" cy="581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05" name="Object 1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572160" y="4143240"/>
                    <a:ext cx="53028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6" name="Rectangle 21"/>
          <p:cNvSpPr/>
          <p:nvPr/>
        </p:nvSpPr>
        <p:spPr>
          <a:xfrm>
            <a:off x="0" y="11145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БСТВЕННЫЕ  ВЕКТОРЫ  МАТРИЦ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TextBox 27"/>
          <p:cNvSpPr/>
          <p:nvPr/>
        </p:nvSpPr>
        <p:spPr>
          <a:xfrm>
            <a:off x="428760" y="1285920"/>
            <a:ext cx="8215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Поэтому  любому собственному значению квадратн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матрицы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  соответствует хотя бы один линей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независимый собственный векто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Более того, число линейно независимых собственных векторов,   отвечающих собственному значению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кратности              не превосходит числа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5"/>
          <p:cNvSpPr/>
          <p:nvPr/>
        </p:nvSpPr>
        <p:spPr>
          <a:xfrm>
            <a:off x="0" y="2986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БСТВЕННЫЕ  ВЕКТОРЫ  МАТРИЦ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TextBox 5"/>
          <p:cNvSpPr/>
          <p:nvPr/>
        </p:nvSpPr>
        <p:spPr>
          <a:xfrm>
            <a:off x="428760" y="1357200"/>
            <a:ext cx="8143920" cy="43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1f1f99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Если             простое собственное значение матрицы   </a:t>
            </a:r>
            <a:r>
              <a:rPr b="0" lang="en-US" sz="2400" spc="-1" strike="noStrike">
                <a:solidFill>
                  <a:srgbClr val="1f1f99"/>
                </a:solidFill>
                <a:latin typeface="Arial"/>
              </a:rPr>
              <a:t>A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, тогда  этому   числу  отвечает  ровно  один линейно независимый собственный векто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                   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который находим из системы                         , например, с помощью метода Гаус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3" name="Object 1"/>
          <p:cNvGraphicFramePr/>
          <p:nvPr/>
        </p:nvGraphicFramePr>
        <p:xfrm>
          <a:off x="1928880" y="1428840"/>
          <a:ext cx="736560" cy="60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4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28880" y="1428840"/>
                    <a:ext cx="73656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5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6" name="Object 2"/>
          <p:cNvGraphicFramePr/>
          <p:nvPr/>
        </p:nvGraphicFramePr>
        <p:xfrm>
          <a:off x="857160" y="3000240"/>
          <a:ext cx="1179720" cy="601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7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57160" y="3000240"/>
                    <a:ext cx="1179720" cy="6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8" name="Object 4"/>
          <p:cNvGraphicFramePr/>
          <p:nvPr/>
        </p:nvGraphicFramePr>
        <p:xfrm>
          <a:off x="6286680" y="3071880"/>
          <a:ext cx="2211120" cy="511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19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286680" y="3071880"/>
                    <a:ext cx="2211120" cy="5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5"/>
          <p:cNvSpPr/>
          <p:nvPr/>
        </p:nvSpPr>
        <p:spPr>
          <a:xfrm>
            <a:off x="0" y="2986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7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БСТВЕННЫЕ  ВЕКТОРЫ  МАТРИЦ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TextBox 5"/>
          <p:cNvSpPr/>
          <p:nvPr/>
        </p:nvSpPr>
        <p:spPr>
          <a:xfrm>
            <a:off x="-34200" y="1571760"/>
            <a:ext cx="9201240" cy="53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1f1f99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Случай, когда характеристическое уравн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имеет комплексный корень               кратности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Так как данное алгебраическое уравнение 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действительными коэффициентами, то оно обязатель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имеет корень           комплексно–сопряженный п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отношению  к       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4" name="Object 6"/>
              <p:cNvSpPr txBox="1"/>
              <p:nvPr/>
            </p:nvSpPr>
            <p:spPr>
              <a:xfrm>
                <a:off x="1357200" y="2500200"/>
                <a:ext cx="59295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λ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λ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λ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/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325" name="Object 2"/>
          <p:cNvGraphicFramePr/>
          <p:nvPr/>
        </p:nvGraphicFramePr>
        <p:xfrm>
          <a:off x="4714920" y="3214800"/>
          <a:ext cx="401760" cy="60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4920" y="3214800"/>
                    <a:ext cx="40176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8" name="Object 3"/>
          <p:cNvGraphicFramePr/>
          <p:nvPr/>
        </p:nvGraphicFramePr>
        <p:xfrm>
          <a:off x="7273800" y="3294000"/>
          <a:ext cx="941400" cy="492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273800" y="3294000"/>
                    <a:ext cx="941400" cy="4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0" name="Object 5"/>
          <p:cNvGraphicFramePr/>
          <p:nvPr/>
        </p:nvGraphicFramePr>
        <p:xfrm>
          <a:off x="2786040" y="4929120"/>
          <a:ext cx="468360" cy="608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31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86040" y="4929120"/>
                    <a:ext cx="46836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2" name="Object 11"/>
          <p:cNvGraphicFramePr/>
          <p:nvPr/>
        </p:nvGraphicFramePr>
        <p:xfrm>
          <a:off x="2571840" y="5429160"/>
          <a:ext cx="401400" cy="608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33" name="Object 1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571840" y="5429160"/>
                    <a:ext cx="40140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бственные значения   матриц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496000" cy="46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Рассмотрим  квадратную матрицу  порядка         с постоянными действительными элемент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Arial"/>
              </a:rPr>
              <a:t>Определение. 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Число         называется собственным значением, а ненулевой вектор      называется соответствующим собственным вектором матрицы         если выполняется равенств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Объект 5"/>
              <p:cNvSpPr txBox="1"/>
              <p:nvPr/>
            </p:nvSpPr>
            <p:spPr>
              <a:xfrm>
                <a:off x="3181320" y="2492280"/>
                <a:ext cx="2120760" cy="126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Объект 7"/>
              <p:cNvSpPr txBox="1"/>
              <p:nvPr/>
            </p:nvSpPr>
            <p:spPr>
              <a:xfrm>
                <a:off x="7740720" y="1557360"/>
                <a:ext cx="28080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Объект 8"/>
              <p:cNvSpPr txBox="1"/>
              <p:nvPr/>
            </p:nvSpPr>
            <p:spPr>
              <a:xfrm>
                <a:off x="6804000" y="1989000"/>
                <a:ext cx="393840" cy="56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Объект 16"/>
              <p:cNvSpPr txBox="1"/>
              <p:nvPr/>
            </p:nvSpPr>
            <p:spPr>
              <a:xfrm>
                <a:off x="3708360" y="3860640"/>
                <a:ext cx="309600" cy="4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Объект 17"/>
              <p:cNvSpPr txBox="1"/>
              <p:nvPr/>
            </p:nvSpPr>
            <p:spPr>
              <a:xfrm>
                <a:off x="4932360" y="4365720"/>
                <a:ext cx="30960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h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Объект 18"/>
              <p:cNvSpPr txBox="1"/>
              <p:nvPr/>
            </p:nvSpPr>
            <p:spPr>
              <a:xfrm>
                <a:off x="8028000" y="4941720"/>
                <a:ext cx="338040" cy="38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0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Объект 20"/>
              <p:cNvSpPr txBox="1"/>
              <p:nvPr/>
            </p:nvSpPr>
            <p:spPr>
              <a:xfrm>
                <a:off x="4954680" y="5516640"/>
                <a:ext cx="257004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⋅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h</m:t>
                        </m:r>
                      </m:e>
                    </m:bar>
                    <m:r>
                      <m:t xml:space="preserve">=</m:t>
                    </m:r>
                    <m:r>
                      <m:t xml:space="preserve">λ</m:t>
                    </m:r>
                    <m:r>
                      <m:t xml:space="preserve">⋅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h</m:t>
                        </m:r>
                      </m:e>
                    </m:ba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5"/>
          <p:cNvSpPr/>
          <p:nvPr/>
        </p:nvSpPr>
        <p:spPr>
          <a:xfrm>
            <a:off x="0" y="2986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7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Прямоугольник 4"/>
          <p:cNvSpPr/>
          <p:nvPr/>
        </p:nvSpPr>
        <p:spPr>
          <a:xfrm>
            <a:off x="428760" y="1428840"/>
            <a:ext cx="8246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Кратность корня          равна  числу                  Поэтому следует найти собственные векторы 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соответствующие собственному значению              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Далее нужно  построить к ним комплексно-сопряже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векторы, которые являются собственны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векторами, соответствующими собственном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значению        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БСТВЕННЫЕ  ВЕКТОРЫ  МАТРИЦ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8" name="Object 1"/>
          <p:cNvGraphicFramePr/>
          <p:nvPr/>
        </p:nvGraphicFramePr>
        <p:xfrm>
          <a:off x="3059280" y="1428840"/>
          <a:ext cx="468000" cy="60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9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59280" y="1428840"/>
                    <a:ext cx="46800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0" name="Object 2"/>
          <p:cNvGraphicFramePr/>
          <p:nvPr/>
        </p:nvGraphicFramePr>
        <p:xfrm>
          <a:off x="5796000" y="1463760"/>
          <a:ext cx="426960" cy="520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1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6000" y="1463760"/>
                    <a:ext cx="42696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2" name="Object 3"/>
          <p:cNvGraphicFramePr/>
          <p:nvPr/>
        </p:nvGraphicFramePr>
        <p:xfrm>
          <a:off x="6786720" y="2500200"/>
          <a:ext cx="401400" cy="608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3" name="Object 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786720" y="2500200"/>
                    <a:ext cx="40140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4" name="Object 4"/>
          <p:cNvGraphicFramePr/>
          <p:nvPr/>
        </p:nvGraphicFramePr>
        <p:xfrm>
          <a:off x="2143080" y="4714920"/>
          <a:ext cx="468360" cy="608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45" name="Object 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143080" y="4714920"/>
                    <a:ext cx="46836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5"/>
          <p:cNvSpPr/>
          <p:nvPr/>
        </p:nvSpPr>
        <p:spPr>
          <a:xfrm>
            <a:off x="0" y="2986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7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17680" y="22860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БСТВЕННЫЕ  ВЕКТОРЫ  МАТРИЦ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TextBox 1"/>
          <p:cNvSpPr/>
          <p:nvPr/>
        </p:nvSpPr>
        <p:spPr>
          <a:xfrm>
            <a:off x="395280" y="1628640"/>
            <a:ext cx="8209080" cy="43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Arial"/>
              </a:rPr>
              <a:t>4. 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Пусть у матрицы  </a:t>
            </a:r>
            <a:r>
              <a:rPr b="0" i="1" lang="ru-RU" sz="2400" spc="-1" strike="noStrike">
                <a:solidFill>
                  <a:srgbClr val="1f1f99"/>
                </a:solidFill>
                <a:latin typeface="Arial"/>
              </a:rPr>
              <a:t>А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  есть кратное собственн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значение        кратности         Тогда, решая систем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будет найдено         линейно независимых собственн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векторов,  отвечающих числу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Причем число           удовлетворяет двойному неравенству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где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0" name="Объект 2"/>
          <p:cNvGraphicFramePr/>
          <p:nvPr/>
        </p:nvGraphicFramePr>
        <p:xfrm>
          <a:off x="2050920" y="2205000"/>
          <a:ext cx="333360" cy="50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1" name="Объект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2205000"/>
                    <a:ext cx="33336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2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3" name="Объект 5"/>
              <p:cNvSpPr txBox="1"/>
              <p:nvPr/>
            </p:nvSpPr>
            <p:spPr>
              <a:xfrm>
                <a:off x="4140360" y="2276640"/>
                <a:ext cx="70452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≥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4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5" name="Объект 7"/>
              <p:cNvSpPr txBox="1"/>
              <p:nvPr/>
            </p:nvSpPr>
            <p:spPr>
              <a:xfrm>
                <a:off x="2627280" y="2852640"/>
                <a:ext cx="57960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56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7" name="Объект 9"/>
              <p:cNvSpPr txBox="1"/>
              <p:nvPr/>
            </p:nvSpPr>
            <p:spPr>
              <a:xfrm>
                <a:off x="5003640" y="3357720"/>
                <a:ext cx="3970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8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9" name="Объект 11"/>
              <p:cNvSpPr txBox="1"/>
              <p:nvPr/>
            </p:nvSpPr>
            <p:spPr>
              <a:xfrm>
                <a:off x="2556000" y="4581360"/>
                <a:ext cx="145548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n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0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1" name="Объект 13"/>
              <p:cNvSpPr txBox="1"/>
              <p:nvPr/>
            </p:nvSpPr>
            <p:spPr>
              <a:xfrm>
                <a:off x="1258920" y="5084640"/>
                <a:ext cx="164448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E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2" name="Объект 14"/>
              <p:cNvSpPr txBox="1"/>
              <p:nvPr/>
            </p:nvSpPr>
            <p:spPr>
              <a:xfrm>
                <a:off x="2700360" y="4005360"/>
                <a:ext cx="57924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5"/>
          <p:cNvSpPr/>
          <p:nvPr/>
        </p:nvSpPr>
        <p:spPr>
          <a:xfrm>
            <a:off x="0" y="2986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7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17680" y="22860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БСТВЕННЫЕ  ВЕКТОРЫ  МАТРИЦ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TextBox 24"/>
          <p:cNvSpPr/>
          <p:nvPr/>
        </p:nvSpPr>
        <p:spPr>
          <a:xfrm>
            <a:off x="900000" y="184464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Box 23552"/>
          <p:cNvSpPr/>
          <p:nvPr/>
        </p:nvSpPr>
        <p:spPr>
          <a:xfrm>
            <a:off x="468360" y="1413000"/>
            <a:ext cx="8064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Arial"/>
              </a:rPr>
              <a:t>Замечание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.  Если оказывается, что                то дл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собственного значения         будет найдено столько линейно независимых собственных векторов, какова кратность рассматриваемого собственного значения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4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9" name="Объект 23571"/>
              <p:cNvSpPr txBox="1"/>
              <p:nvPr/>
            </p:nvSpPr>
            <p:spPr>
              <a:xfrm>
                <a:off x="5691240" y="1592280"/>
                <a:ext cx="1257120" cy="3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370" name="Объект 23572"/>
          <p:cNvGraphicFramePr/>
          <p:nvPr/>
        </p:nvGraphicFramePr>
        <p:xfrm>
          <a:off x="3924360" y="1978200"/>
          <a:ext cx="401400" cy="60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1" name="Объект 2357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4360" y="1978200"/>
                    <a:ext cx="401400" cy="60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2" name="Объект 23573"/>
          <p:cNvGraphicFramePr/>
          <p:nvPr/>
        </p:nvGraphicFramePr>
        <p:xfrm>
          <a:off x="8101080" y="3068640"/>
          <a:ext cx="401400" cy="608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3" name="Объект 2357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101080" y="3068640"/>
                    <a:ext cx="40140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5"/>
          <p:cNvSpPr/>
          <p:nvPr/>
        </p:nvSpPr>
        <p:spPr>
          <a:xfrm>
            <a:off x="0" y="2986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7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ример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Прямоугольник 1"/>
          <p:cNvSpPr/>
          <p:nvPr/>
        </p:nvSpPr>
        <p:spPr>
          <a:xfrm>
            <a:off x="395280" y="1413000"/>
            <a:ext cx="80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1f99"/>
                </a:solidFill>
                <a:latin typeface="Arial"/>
              </a:rPr>
              <a:t>1.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 Найти собственные значения и собственные векторы матр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9" name="Объект 3"/>
              <p:cNvSpPr txBox="1"/>
              <p:nvPr/>
            </p:nvSpPr>
            <p:spPr>
              <a:xfrm>
                <a:off x="3132000" y="2492280"/>
                <a:ext cx="158616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0" name="TextBox 4"/>
          <p:cNvSpPr/>
          <p:nvPr/>
        </p:nvSpPr>
        <p:spPr>
          <a:xfrm>
            <a:off x="584280" y="371628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Box 11"/>
          <p:cNvSpPr/>
          <p:nvPr/>
        </p:nvSpPr>
        <p:spPr>
          <a:xfrm>
            <a:off x="584280" y="3645000"/>
            <a:ext cx="787536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Arial"/>
              </a:rPr>
              <a:t>Решение.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 Найдем собственные значения матриц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3" name="Object 11"/>
              <p:cNvSpPr txBox="1"/>
              <p:nvPr/>
            </p:nvSpPr>
            <p:spPr>
              <a:xfrm>
                <a:off x="785880" y="4292640"/>
                <a:ext cx="717084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λE</m:t>
                        </m:r>
                        <m:r>
                          <m:t xml:space="preserve"> 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 </m:t>
                        </m:r>
                        <m:m>
                          <m:mr>
                            <m:e>
                              <m:r>
                                <m:t xml:space="preserve">(</m:t>
                              </m:r>
                              <m:r>
                                <m:t xml:space="preserve">4</m:t>
                              </m:r>
                              <m:r>
                                <m:t xml:space="preserve">−</m:t>
                              </m:r>
                              <m:r>
                                <m:t xml:space="preserve">λ</m:t>
                              </m:r>
                              <m:r>
                                <m:t xml:space="preserve">)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(</m:t>
                              </m:r>
                              <m:r>
                                <m:t xml:space="preserve">2</m:t>
                              </m:r>
                              <m:r>
                                <m:t xml:space="preserve">−</m:t>
                              </m:r>
                              <m:r>
                                <m:t xml:space="preserve">λ</m:t>
                              </m:r>
                              <m:r>
                                <m:t xml:space="preserve">)</m:t>
                              </m:r>
                            </m:e>
                          </m:mr>
                        </m:m>
                        <m:r>
                          <m:t xml:space="preserve"> </m:t>
                        </m:r>
                      </m:e>
                    </m:d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−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λ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λ</m:t>
                    </m:r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4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5" name="Объект 5"/>
              <p:cNvSpPr txBox="1"/>
              <p:nvPr/>
            </p:nvSpPr>
            <p:spPr>
              <a:xfrm>
                <a:off x="3513240" y="5229360"/>
                <a:ext cx="182880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ример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9" name="Объект 2"/>
              <p:cNvSpPr txBox="1"/>
              <p:nvPr/>
            </p:nvSpPr>
            <p:spPr>
              <a:xfrm>
                <a:off x="1096920" y="1457280"/>
                <a:ext cx="75744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0" name="TextBox 6"/>
          <p:cNvSpPr/>
          <p:nvPr/>
        </p:nvSpPr>
        <p:spPr>
          <a:xfrm>
            <a:off x="698760" y="1413000"/>
            <a:ext cx="497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бственное значение кратн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1" name="Объект 10"/>
              <p:cNvSpPr txBox="1"/>
              <p:nvPr/>
            </p:nvSpPr>
            <p:spPr>
              <a:xfrm>
                <a:off x="5718240" y="1413000"/>
                <a:ext cx="662040" cy="32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2" name="TextBox 11"/>
          <p:cNvSpPr/>
          <p:nvPr/>
        </p:nvSpPr>
        <p:spPr>
          <a:xfrm>
            <a:off x="1476360" y="184464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3" name="Объект 14"/>
          <p:cNvGraphicFramePr/>
          <p:nvPr/>
        </p:nvGraphicFramePr>
        <p:xfrm>
          <a:off x="684360" y="1916280"/>
          <a:ext cx="6087960" cy="115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4" name="Объект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916280"/>
                    <a:ext cx="6087960" cy="115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95" name="Объект 16"/>
              <p:cNvSpPr txBox="1"/>
              <p:nvPr/>
            </p:nvSpPr>
            <p:spPr>
              <a:xfrm>
                <a:off x="684360" y="3284640"/>
                <a:ext cx="3119400" cy="87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(</m:t>
                              </m:r>
                              <m:r>
                                <m:t xml:space="preserve">4</m:t>
                              </m:r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  <m:r>
                                <m:t xml:space="preserve">)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(</m:t>
                              </m:r>
                              <m:r>
                                <m:t xml:space="preserve">2</m:t>
                              </m:r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  <m:r>
                                <m:t xml:space="preserve">)</m:t>
                              </m:r>
                            </m:e>
                          </m:mr>
                        </m:m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h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h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96" name="Rectangle 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7" name="Объект 18"/>
              <p:cNvSpPr txBox="1"/>
              <p:nvPr/>
            </p:nvSpPr>
            <p:spPr>
              <a:xfrm>
                <a:off x="4518000" y="3429000"/>
                <a:ext cx="356544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</m:m>
                        <m:r>
                          <m:t xml:space="preserve"> </m:t>
                        </m:r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  <m:m>
                      <m:mr>
                        <m:e>
                          <m:r>
                            <m:t xml:space="preserve">(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</m:e>
                      </m:mr>
                      <m:mr>
                        <m:e>
                          <m:r>
                            <m:t xml:space="preserve">→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 </m:t>
                              </m:r>
                              <m:m>
                                <m:mr>
                                  <m:e>
                                    <m:r>
                                      <m:t xml:space="preserve">1</m:t>
                                    </m:r>
                                  </m:e>
                                  <m:e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0</m:t>
                                    </m:r>
                                  </m:e>
                                </m:mr>
                              </m:m>
                              <m:r>
                                <m:t xml:space="preserve"> </m:t>
                              </m:r>
                              <m:m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</m:mr>
                              </m:m>
                            </m:e>
                          </m:d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398" name="Прямая соединительная линия 20"/>
          <p:cNvSpPr/>
          <p:nvPr/>
        </p:nvSpPr>
        <p:spPr>
          <a:xfrm>
            <a:off x="5370480" y="3429000"/>
            <a:ext cx="0" cy="792000"/>
          </a:xfrm>
          <a:prstGeom prst="line">
            <a:avLst/>
          </a:prstGeom>
          <a:ln w="255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9" name="Соединительная линия уступом 22"/>
          <p:cNvCxnSpPr/>
          <p:nvPr/>
        </p:nvCxnSpPr>
        <p:spPr>
          <a:xfrm flipV="1" rot="10800000">
            <a:off x="5764320" y="3790440"/>
            <a:ext cx="536760" cy="215280"/>
          </a:xfrm>
          <a:prstGeom prst="bentConnector3">
            <a:avLst>
              <a:gd name="adj1" fmla="val 50000"/>
            </a:avLst>
          </a:prstGeom>
          <a:ln w="34920">
            <a:solidFill>
              <a:srgbClr val="cc0066"/>
            </a:solidFill>
            <a:miter/>
            <a:tailEnd len="med" type="triangle" w="med"/>
          </a:ln>
        </p:spPr>
      </p:cxnSp>
      <p:sp>
        <p:nvSpPr>
          <p:cNvPr id="400" name="Прямая соединительная линия 37"/>
          <p:cNvSpPr/>
          <p:nvPr/>
        </p:nvSpPr>
        <p:spPr>
          <a:xfrm>
            <a:off x="7667640" y="3429000"/>
            <a:ext cx="0" cy="792000"/>
          </a:xfrm>
          <a:prstGeom prst="line">
            <a:avLst/>
          </a:prstGeom>
          <a:ln w="255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Прямая соединительная линия 38"/>
          <p:cNvSpPr/>
          <p:nvPr/>
        </p:nvSpPr>
        <p:spPr>
          <a:xfrm flipH="1">
            <a:off x="6804000" y="3789360"/>
            <a:ext cx="1152720" cy="1440"/>
          </a:xfrm>
          <a:prstGeom prst="line">
            <a:avLst/>
          </a:prstGeom>
          <a:ln w="255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Прямая соединительная линия 16"/>
          <p:cNvSpPr/>
          <p:nvPr/>
        </p:nvSpPr>
        <p:spPr>
          <a:xfrm>
            <a:off x="9936000" y="6858000"/>
            <a:ext cx="0" cy="792000"/>
          </a:xfrm>
          <a:prstGeom prst="line">
            <a:avLst/>
          </a:prstGeom>
          <a:ln w="255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3" name="Объект 1"/>
              <p:cNvSpPr txBox="1"/>
              <p:nvPr/>
            </p:nvSpPr>
            <p:spPr>
              <a:xfrm>
                <a:off x="860400" y="4653000"/>
                <a:ext cx="14270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4" name="Object 19"/>
              <p:cNvSpPr txBox="1"/>
              <p:nvPr/>
            </p:nvSpPr>
            <p:spPr>
              <a:xfrm>
                <a:off x="2700360" y="4797360"/>
                <a:ext cx="330120" cy="2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5" name="Объект 3"/>
              <p:cNvSpPr txBox="1"/>
              <p:nvPr/>
            </p:nvSpPr>
            <p:spPr>
              <a:xfrm>
                <a:off x="3529080" y="4444920"/>
                <a:ext cx="1012680" cy="7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=</m:t>
                    </m:r>
                    <m:r>
                      <m:t xml:space="preserve">C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6" name="Объект 5"/>
              <p:cNvSpPr txBox="1"/>
              <p:nvPr/>
            </p:nvSpPr>
            <p:spPr>
              <a:xfrm>
                <a:off x="2465280" y="5413320"/>
                <a:ext cx="849600" cy="6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h</m:t>
                            </m:r>
                          </m:e>
                        </m:ba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7" name="Rectangle 25"/>
          <p:cNvSpPr/>
          <p:nvPr/>
        </p:nvSpPr>
        <p:spPr>
          <a:xfrm>
            <a:off x="4951080" y="51552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,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26"/>
          <p:cNvSpPr/>
          <p:nvPr/>
        </p:nvSpPr>
        <p:spPr>
          <a:xfrm>
            <a:off x="4968720" y="97272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Box 10"/>
          <p:cNvSpPr/>
          <p:nvPr/>
        </p:nvSpPr>
        <p:spPr>
          <a:xfrm>
            <a:off x="1407600" y="5516640"/>
            <a:ext cx="9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66"/>
                </a:solidFill>
                <a:latin typeface="Arial"/>
              </a:rPr>
              <a:t>Отв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5"/>
          <p:cNvSpPr/>
          <p:nvPr/>
        </p:nvSpPr>
        <p:spPr>
          <a:xfrm>
            <a:off x="0" y="2986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7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5"/>
          <p:cNvSpPr/>
          <p:nvPr/>
        </p:nvSpPr>
        <p:spPr>
          <a:xfrm>
            <a:off x="0" y="2986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7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835164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Arial"/>
              </a:rPr>
              <a:t>Определение. 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Множество всех собственных значений матрицы  называется</a:t>
            </a:r>
            <a:r>
              <a:rPr b="0" i="1" lang="ru-RU" sz="2400" spc="-1" strike="noStrike">
                <a:solidFill>
                  <a:srgbClr val="1f1f99"/>
                </a:solidFill>
                <a:latin typeface="Arial"/>
              </a:rPr>
              <a:t>  </a:t>
            </a:r>
            <a:r>
              <a:rPr b="1" i="1" lang="ru-RU" sz="2400" spc="-1" strike="noStrike">
                <a:solidFill>
                  <a:srgbClr val="1f1f99"/>
                </a:solidFill>
                <a:latin typeface="Arial"/>
              </a:rPr>
              <a:t>спектром матриц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Arial"/>
              </a:rPr>
              <a:t>Замечание.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Представим равенство (1) в сл. вид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                                       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и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              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единичная матрица порядка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Равенство (2) является системой линейных алгебраических уравнений относительно вектора     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Object 4"/>
              <p:cNvSpPr txBox="1"/>
              <p:nvPr/>
            </p:nvSpPr>
            <p:spPr>
              <a:xfrm>
                <a:off x="4405320" y="3141720"/>
                <a:ext cx="309240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−</m:t>
                    </m:r>
                    <m:r>
                      <m:t xml:space="preserve">λE</m:t>
                    </m:r>
                    <m:r>
                      <m:t xml:space="preserve">)</m:t>
                    </m:r>
                    <m:r>
                      <m:t xml:space="preserve">⋅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h</m:t>
                        </m:r>
                      </m:e>
                    </m:bar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0</m:t>
                        </m:r>
                      </m:e>
                    </m:ba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Object 6"/>
              <p:cNvSpPr txBox="1"/>
              <p:nvPr/>
            </p:nvSpPr>
            <p:spPr>
              <a:xfrm>
                <a:off x="971640" y="3141720"/>
                <a:ext cx="22683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h</m:t>
                    </m:r>
                    <m:r>
                      <m:t xml:space="preserve">−</m:t>
                    </m:r>
                    <m:r>
                      <m:t xml:space="preserve">λ</m:t>
                    </m:r>
                    <m:r>
                      <m:t xml:space="preserve">h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6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Object 7"/>
              <p:cNvSpPr txBox="1"/>
              <p:nvPr/>
            </p:nvSpPr>
            <p:spPr>
              <a:xfrm>
                <a:off x="971640" y="3860640"/>
                <a:ext cx="554040" cy="32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Объект 7"/>
              <p:cNvSpPr txBox="1"/>
              <p:nvPr/>
            </p:nvSpPr>
            <p:spPr>
              <a:xfrm>
                <a:off x="5796000" y="3897360"/>
                <a:ext cx="280800" cy="32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Объект 17"/>
              <p:cNvSpPr txBox="1"/>
              <p:nvPr/>
            </p:nvSpPr>
            <p:spPr>
              <a:xfrm>
                <a:off x="5580000" y="4869000"/>
                <a:ext cx="30960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h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бственные значения   матриц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68360" y="1412640"/>
            <a:ext cx="813600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Система вида (2) всегда совместна, так как всегда имеет нулевое реш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Система (2) имеет тривиальное (нулевое             ) решение, если определитель матр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Система (2)  имеет ненулевые решения               ,  ес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бственные значения   матриц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Object 7"/>
              <p:cNvSpPr txBox="1"/>
              <p:nvPr/>
            </p:nvSpPr>
            <p:spPr>
              <a:xfrm>
                <a:off x="6653160" y="2708280"/>
                <a:ext cx="72720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h</m:t>
                        </m:r>
                      </m:e>
                    </m:bar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0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Object 9"/>
              <p:cNvSpPr txBox="1"/>
              <p:nvPr/>
            </p:nvSpPr>
            <p:spPr>
              <a:xfrm>
                <a:off x="6300720" y="3213000"/>
                <a:ext cx="179568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λE</m:t>
                        </m:r>
                      </m:e>
                    </m:d>
                    <m:r>
                      <m:t xml:space="preserve">≠</m:t>
                    </m:r>
                    <m:r>
                      <m:t xml:space="preserve">0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Object 10"/>
              <p:cNvSpPr txBox="1"/>
              <p:nvPr/>
            </p:nvSpPr>
            <p:spPr>
              <a:xfrm>
                <a:off x="6588000" y="3860640"/>
                <a:ext cx="72720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h</m:t>
                        </m:r>
                      </m:e>
                    </m:bar>
                    <m:r>
                      <m:t xml:space="preserve">≠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0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Object 11"/>
              <p:cNvSpPr txBox="1"/>
              <p:nvPr/>
            </p:nvSpPr>
            <p:spPr>
              <a:xfrm>
                <a:off x="2916360" y="4581360"/>
                <a:ext cx="291456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λE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бственные значения   матриц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Object 6"/>
              <p:cNvSpPr txBox="1"/>
              <p:nvPr/>
            </p:nvSpPr>
            <p:spPr>
              <a:xfrm>
                <a:off x="2556000" y="4437000"/>
                <a:ext cx="4329000" cy="16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 </m:t>
                        </m:r>
                        <m:m>
                          <m:mr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r>
                                <m:t xml:space="preserve">λ</m:t>
                              </m:r>
                              <m:r>
                                <m:t xml:space="preserve">)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r>
                                <m:t xml:space="preserve">λ</m:t>
                              </m:r>
                              <m:r>
                                <m:t xml:space="preserve">)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r>
                                <m:t xml:space="preserve">λ</m:t>
                              </m:r>
                              <m:r>
                                <m:t xml:space="preserve">)</m:t>
                              </m:r>
                            </m:e>
                          </m:mr>
                        </m:m>
                        <m:r>
                          <m:t xml:space="preserve"> 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TextBox 9"/>
          <p:cNvSpPr/>
          <p:nvPr/>
        </p:nvSpPr>
        <p:spPr>
          <a:xfrm>
            <a:off x="447840" y="1557360"/>
            <a:ext cx="815652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Уравнение (3) называется </a:t>
            </a:r>
            <a:r>
              <a:rPr b="1" i="1" lang="ru-RU" sz="2400" spc="-1" strike="noStrike">
                <a:solidFill>
                  <a:srgbClr val="1f1f99"/>
                </a:solidFill>
                <a:latin typeface="Arial"/>
              </a:rPr>
              <a:t>характеристически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f1f99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1f1f99"/>
                </a:solidFill>
                <a:latin typeface="Arial"/>
              </a:rPr>
              <a:t>уравнением матрицы     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Решения уравнения (3) называются </a:t>
            </a:r>
            <a:r>
              <a:rPr b="0" i="1" lang="ru-RU" sz="2400" spc="-1" strike="noStrike">
                <a:solidFill>
                  <a:srgbClr val="1f1f99"/>
                </a:solidFill>
                <a:latin typeface="Arial"/>
              </a:rPr>
              <a:t>собственными значениями 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матрицы      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Уравнение (3) можно представить в сл. вид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Объект 18"/>
              <p:cNvSpPr txBox="1"/>
              <p:nvPr/>
            </p:nvSpPr>
            <p:spPr>
              <a:xfrm>
                <a:off x="4140360" y="2205000"/>
                <a:ext cx="37116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Object 9"/>
              <p:cNvSpPr txBox="1"/>
              <p:nvPr/>
            </p:nvSpPr>
            <p:spPr>
              <a:xfrm>
                <a:off x="3780000" y="3357720"/>
                <a:ext cx="33804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323640" y="1412640"/>
            <a:ext cx="828036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Вычислив определитель,   разложив его по элементам первой строки, и сгруппировав подобные члены,  получим алгебраическое уравнение степени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относительно     , а               где постоянные действительные  чис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Многочлен       ой степени  относительно        называет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1f1f99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1f1f99"/>
                </a:solidFill>
                <a:latin typeface="Arial"/>
              </a:rPr>
              <a:t>характеристическим многочленом 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матрицы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бственные значения   матриц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Object 6"/>
              <p:cNvSpPr txBox="1"/>
              <p:nvPr/>
            </p:nvSpPr>
            <p:spPr>
              <a:xfrm>
                <a:off x="1665360" y="3141720"/>
                <a:ext cx="59292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λ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λ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λ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/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Объект 7"/>
              <p:cNvSpPr txBox="1"/>
              <p:nvPr/>
            </p:nvSpPr>
            <p:spPr>
              <a:xfrm>
                <a:off x="6948360" y="2708280"/>
                <a:ext cx="28116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Объект 16"/>
              <p:cNvSpPr txBox="1"/>
              <p:nvPr/>
            </p:nvSpPr>
            <p:spPr>
              <a:xfrm>
                <a:off x="2556000" y="3933720"/>
                <a:ext cx="309600" cy="4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0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Object 10"/>
              <p:cNvSpPr txBox="1"/>
              <p:nvPr/>
            </p:nvSpPr>
            <p:spPr>
              <a:xfrm>
                <a:off x="3995640" y="3933720"/>
                <a:ext cx="1684440" cy="43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2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Object 12"/>
              <p:cNvSpPr txBox="1"/>
              <p:nvPr/>
            </p:nvSpPr>
            <p:spPr>
              <a:xfrm>
                <a:off x="4071960" y="4429080"/>
                <a:ext cx="182088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⋅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44" name="Object 12"/>
          <p:cNvGraphicFramePr/>
          <p:nvPr/>
        </p:nvGraphicFramePr>
        <p:xfrm>
          <a:off x="2000160" y="5143680"/>
          <a:ext cx="533520" cy="32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00160" y="5143680"/>
                    <a:ext cx="533520" cy="32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46" name="Object 13"/>
              <p:cNvSpPr txBox="1"/>
              <p:nvPr/>
            </p:nvSpPr>
            <p:spPr>
              <a:xfrm>
                <a:off x="6357960" y="5072040"/>
                <a:ext cx="309600" cy="4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47" name="Объект 18"/>
          <p:cNvGraphicFramePr/>
          <p:nvPr/>
        </p:nvGraphicFramePr>
        <p:xfrm>
          <a:off x="7424640" y="5643720"/>
          <a:ext cx="433440" cy="453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8" name="Объект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424640" y="5643720"/>
                    <a:ext cx="433440" cy="45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БСТВЕННЫЕ  ЗНАЧЕНИЯ  МАТРИЦ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28760" y="1600200"/>
            <a:ext cx="828648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Согласно основной теореме алгебры характеристическое уравнение всегда имеет ровно корней       (с учетом их кратности),  которые в общем случае являются комплексными числа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Arial"/>
              </a:rPr>
              <a:t>Теорема.  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Любая постоянная квадратная матриц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порядка           имеет с учетом кратности ров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собственных значений, совпадающих с корня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            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характеристического уравн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Объект 7"/>
              <p:cNvSpPr txBox="1"/>
              <p:nvPr/>
            </p:nvSpPr>
            <p:spPr>
              <a:xfrm>
                <a:off x="1857240" y="2857680"/>
                <a:ext cx="281160" cy="32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Object 5"/>
              <p:cNvSpPr txBox="1"/>
              <p:nvPr/>
            </p:nvSpPr>
            <p:spPr>
              <a:xfrm>
                <a:off x="7358040" y="4714920"/>
                <a:ext cx="281160" cy="32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Object 6"/>
              <p:cNvSpPr txBox="1"/>
              <p:nvPr/>
            </p:nvSpPr>
            <p:spPr>
              <a:xfrm>
                <a:off x="2000160" y="4714920"/>
                <a:ext cx="281160" cy="32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Объект 18"/>
              <p:cNvSpPr txBox="1"/>
              <p:nvPr/>
            </p:nvSpPr>
            <p:spPr>
              <a:xfrm>
                <a:off x="7858080" y="4000680"/>
                <a:ext cx="371520" cy="42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5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8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0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БСТВЕННЫЕ  ЗНАЧЕНИЯ  МАТРИЦ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TextBox 13"/>
          <p:cNvSpPr/>
          <p:nvPr/>
        </p:nvSpPr>
        <p:spPr>
          <a:xfrm>
            <a:off x="428760" y="1357200"/>
            <a:ext cx="8143920" cy="35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Arial"/>
              </a:rPr>
              <a:t>Замечание.  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Задача нахождения собственн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значений матрицы           сводится к решен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характеристического уравнения       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1f1f99"/>
                </a:solidFill>
                <a:latin typeface="Arial"/>
              </a:rPr>
              <a:t>.   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Найти собственные значения  и векто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матрицы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Объект 18"/>
              <p:cNvSpPr txBox="1"/>
              <p:nvPr/>
            </p:nvSpPr>
            <p:spPr>
              <a:xfrm>
                <a:off x="3357720" y="2071800"/>
                <a:ext cx="37116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61" name="Object 14"/>
          <p:cNvGraphicFramePr/>
          <p:nvPr/>
        </p:nvGraphicFramePr>
        <p:xfrm>
          <a:off x="5286240" y="2643120"/>
          <a:ext cx="557280" cy="64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6240" y="2643120"/>
                    <a:ext cx="557280" cy="6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Object 15"/>
          <p:cNvGraphicFramePr/>
          <p:nvPr/>
        </p:nvGraphicFramePr>
        <p:xfrm>
          <a:off x="2071800" y="3714840"/>
          <a:ext cx="1919160" cy="1170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4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71800" y="3714840"/>
                    <a:ext cx="1919160" cy="117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TextBox 18"/>
          <p:cNvSpPr/>
          <p:nvPr/>
        </p:nvSpPr>
        <p:spPr>
          <a:xfrm>
            <a:off x="459360" y="5072040"/>
            <a:ext cx="794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Arial"/>
              </a:rPr>
              <a:t>Решение. 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Составляем характеристическое уравн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5"/>
          <p:cNvSpPr/>
          <p:nvPr/>
        </p:nvSpPr>
        <p:spPr>
          <a:xfrm>
            <a:off x="0" y="2986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7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Object 8"/>
          <p:cNvGraphicFramePr/>
          <p:nvPr/>
        </p:nvGraphicFramePr>
        <p:xfrm>
          <a:off x="500040" y="1428840"/>
          <a:ext cx="4726080" cy="13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040" y="1428840"/>
                    <a:ext cx="472608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БСТВЕННЫЕ  ЗНАЧЕНИЯ  МАТРИЦ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Object 9"/>
          <p:cNvGraphicFramePr/>
          <p:nvPr/>
        </p:nvGraphicFramePr>
        <p:xfrm>
          <a:off x="714240" y="3000240"/>
          <a:ext cx="3838680" cy="749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2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14240" y="3000240"/>
                    <a:ext cx="3838680" cy="7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Object 10"/>
          <p:cNvGraphicFramePr/>
          <p:nvPr/>
        </p:nvGraphicFramePr>
        <p:xfrm>
          <a:off x="5715000" y="2357280"/>
          <a:ext cx="1917720" cy="843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4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15000" y="2357280"/>
                    <a:ext cx="1917720" cy="84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5" name="Object 11"/>
          <p:cNvGraphicFramePr/>
          <p:nvPr/>
        </p:nvGraphicFramePr>
        <p:xfrm>
          <a:off x="5786280" y="3500280"/>
          <a:ext cx="1684440" cy="843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6" name="Object 1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786280" y="3500280"/>
                    <a:ext cx="1684440" cy="84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177" name="Прямая со стрелкой 15"/>
          <p:cNvCxnSpPr/>
          <p:nvPr/>
        </p:nvCxnSpPr>
        <p:spPr>
          <a:xfrm flipV="1">
            <a:off x="4571640" y="2928240"/>
            <a:ext cx="1143720" cy="572040"/>
          </a:xfrm>
          <a:prstGeom prst="straightConnector1">
            <a:avLst/>
          </a:prstGeom>
          <a:ln w="57240">
            <a:solidFill>
              <a:srgbClr val="cc0066"/>
            </a:solidFill>
            <a:miter/>
            <a:tailEnd len="med" type="arrow" w="med"/>
          </a:ln>
        </p:spPr>
      </p:cxnSp>
      <p:cxnSp>
        <p:nvCxnSpPr>
          <p:cNvPr id="178" name="Прямая со стрелкой 17"/>
          <p:cNvCxnSpPr/>
          <p:nvPr/>
        </p:nvCxnSpPr>
        <p:spPr>
          <a:xfrm>
            <a:off x="4571640" y="3499920"/>
            <a:ext cx="1143720" cy="715320"/>
          </a:xfrm>
          <a:prstGeom prst="straightConnector1">
            <a:avLst/>
          </a:prstGeom>
          <a:ln w="57240">
            <a:solidFill>
              <a:srgbClr val="cc0066"/>
            </a:solidFill>
            <a:miter/>
            <a:tailEnd len="med" type="arrow" w="med"/>
          </a:ln>
        </p:spPr>
      </p:cxnSp>
      <p:sp>
        <p:nvSpPr>
          <p:cNvPr id="179" name="TextBox 21"/>
          <p:cNvSpPr/>
          <p:nvPr/>
        </p:nvSpPr>
        <p:spPr>
          <a:xfrm>
            <a:off x="571680" y="4143240"/>
            <a:ext cx="4805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Найдем собственный век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соответствующий собственно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значени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0" name="Object 12"/>
          <p:cNvGraphicFramePr/>
          <p:nvPr/>
        </p:nvGraphicFramePr>
        <p:xfrm>
          <a:off x="5572080" y="4500720"/>
          <a:ext cx="2949480" cy="936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81" name="Object 1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572080" y="4500720"/>
                    <a:ext cx="2949480" cy="93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Object 13"/>
          <p:cNvGraphicFramePr/>
          <p:nvPr/>
        </p:nvGraphicFramePr>
        <p:xfrm>
          <a:off x="2428920" y="5286240"/>
          <a:ext cx="1917720" cy="8431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83" name="Object 13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428920" y="5286240"/>
                    <a:ext cx="1917720" cy="84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3T11:40:02Z</dcterms:created>
  <dc:creator>к.502</dc:creator>
  <dc:description/>
  <dc:language>en-US</dc:language>
  <cp:lastModifiedBy>MANYA</cp:lastModifiedBy>
  <dcterms:modified xsi:type="dcterms:W3CDTF">2014-10-16T19:15:06Z</dcterms:modified>
  <cp:revision>66</cp:revision>
  <dc:subject/>
  <dc:title>Определители второго и третьего порядка.</dc:title>
</cp:coreProperties>
</file>